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5C6C-CAA2-4C74-AF7B-D1308EB9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15C0-6735-4780-8F51-0E8717275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6EEB-35DB-4608-A29C-0D6AC6679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27C1-5787-4F97-8D4A-9A5A7241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A3CF-F697-412A-AF42-20B2A0558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F607-1AE5-4599-A6A9-FA7B3963A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ACE7-5CD2-47B3-A068-894E2D8BA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EAE5-F3AE-4121-B889-4FBF1E77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7512-E83F-4910-98AB-5CFE1645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4298-7BA8-4147-9D0C-C8EAE3A8B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4D8E-2D90-4A66-8F96-4310DAD14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B06D-AB0A-4C98-9750-871CD67CE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4A7B-8BDA-4720-8876-7CE3E7559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E6B7-75B9-4ECC-9EF7-5AE244742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1DD5-D3D5-409C-B100-5105BE9F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867A-D737-44F1-B1F9-DF86ACFF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682-253C-483F-A302-EB111178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280-31D1-4655-A82F-2910178F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ECF-DD54-4874-8CBC-BF56A0B4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47E-E3A0-4718-859D-0D63A14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E919-37FB-4917-A3FF-DE574210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3D5C-A970-4EA1-968B-9B33EF4E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C827-F67C-4B89-976F-43A8E65A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9725-CC4F-461D-9DFC-79E113CB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25E6-2C3E-4132-AD5E-B822C580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67AA-3707-49B9-B995-A0E0633B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96A-87C8-4BFB-A2B6-D8E722A8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559-17EE-4B74-ACB0-CCFFC7C7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73CF-179D-4451-8118-4F91D4D3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EBE7-3714-4741-BE40-08F9E3F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3746-FBB8-4B69-B978-E3824E21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7BA0-BEC7-41C7-9092-099B6408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FF63-8DB4-4F13-821E-BFB8799E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925-D229-4CB6-B085-8B77CC1B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BCB-F39B-4B3D-A77E-2F5ED57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380-89C8-4FE9-919C-1872DA13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2DC-16C0-49C3-B93D-FECFFD40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7F4-36E7-467B-A1C8-1AA12A19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37C-7769-430A-9CC9-AA9D4965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7B2-7322-4C77-8299-F834C42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7292-5776-4FDC-B71C-36279F44A949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F7B1-F973-490F-BC81-1F543B4B4640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at is Depression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599840"/>
            <a:ext cx="8042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mood disorder that causes symptoms that affect how you feel, think and handle daily activities such as sleeping, eating or working 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 be diagnosed with depression, the symptoms must have been long lasting or persist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Dysthym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People with this illness are mildly depressed for years. They function fairly well on a daily basis but their relationships suffer over time.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Bipolar Disord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People with this type of illness change back and forth between periods of depression and periods of mania (an extreme high)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ymptoms of mania may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ess need for sleep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Overconfidenc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acing though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eckless behavio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creased energ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Mood changes are usually gradual, but can be sudde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eason Affective Disord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is is a depression that results from changes in the season. Most cases begin in the fall or winter, or when there is a decrease in sunligh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0" name="Picture 4" descr="j0114380"/>
          <p:cNvPicPr/>
          <p:nvPr/>
        </p:nvPicPr>
        <p:blipFill>
          <a:blip r:embed="rId1"/>
          <a:stretch/>
        </p:blipFill>
        <p:spPr>
          <a:xfrm>
            <a:off x="6553080" y="3657600"/>
            <a:ext cx="22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257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Professional treatment is necessary for all these types of depression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2" name="Picture 4" descr="j0216682"/>
          <p:cNvPicPr/>
          <p:nvPr/>
        </p:nvPicPr>
        <p:blipFill>
          <a:blip r:embed="rId1"/>
          <a:stretch/>
        </p:blipFill>
        <p:spPr>
          <a:xfrm>
            <a:off x="3505320" y="3124080"/>
            <a:ext cx="37335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Treatment for Depress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Medic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ntidepressants can help ease the symptoms of depression and return a person to normal functioning. Antidepressants are not habit forming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5" name="Picture 4" descr="BD20073_"/>
          <p:cNvPicPr/>
          <p:nvPr/>
        </p:nvPicPr>
        <p:blipFill>
          <a:blip r:embed="rId1"/>
          <a:stretch/>
        </p:blipFill>
        <p:spPr>
          <a:xfrm>
            <a:off x="5791320" y="4495680"/>
            <a:ext cx="30034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Psychotherap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is can help many depressed people understand themselves and cope with their problems. For exampl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terpersonal therapy works to change relationships that affect depress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ognitive-behavioral therapy helps people change negative thinking and behavior pattern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8" name="Picture 4" descr="BS01651_"/>
          <p:cNvPicPr/>
          <p:nvPr/>
        </p:nvPicPr>
        <p:blipFill>
          <a:blip r:embed="rId1"/>
          <a:stretch/>
        </p:blipFill>
        <p:spPr>
          <a:xfrm>
            <a:off x="5791320" y="5067360"/>
            <a:ext cx="29494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7c9f"/>
                </a:solidFill>
                <a:latin typeface="Arial"/>
              </a:rPr>
              <a:t>Kennedy Peer Advocates</a:t>
            </a:r>
            <a:br>
              <a:rPr sz="3600"/>
            </a:br>
            <a:r>
              <a:rPr b="1" lang="en-US" sz="3600" spc="-1" strike="noStrike">
                <a:solidFill>
                  <a:srgbClr val="2c7c9f"/>
                </a:solidFill>
                <a:latin typeface="Arial"/>
              </a:rPr>
              <a:t>Here to help you!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3200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peak to a peer advocate, counselor,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eacher or an adult you trus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What causes Depression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Family History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Having a family members who have depression may increase a person’s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Imbalances of certain chemicals in the brain may lead to depress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47920" y="685440"/>
            <a:ext cx="4876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Major Life Changes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Positive or negative events can trigger depression. Examples include the death of a loved one or a job los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Major Illnesses such as heart attack, stroke or cancer may trigger depress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6041880" y="3276720"/>
          <a:ext cx="3232440" cy="33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1880" y="3276720"/>
                    <a:ext cx="323244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90560" y="1219320"/>
            <a:ext cx="655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ertain medications used alone or in combination can cause side effects much like the symptoms of depress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Use of Alcohol or other Drugs can lead to or worsen depress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Depression can also occur for no apparent reason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0" y="3048120"/>
          <a:ext cx="32734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32734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ymptoms of Depress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57480" y="1981080"/>
            <a:ext cx="529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Vary from person to person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2 key signs are loss of interest in things you like to do and sadness or irritability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6273720" y="1523880"/>
          <a:ext cx="287028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1523880"/>
                    <a:ext cx="28702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igns include: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4920" y="1980720"/>
            <a:ext cx="773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Changes in feelings which may include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Feeling empt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ability to enjoy anyth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Hopelessnes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oss of warm feelings for family or friend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Feelings of self blame or guil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oss of self estee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explicable crying spells, sadness or irritability, ange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Physical Complain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90560" y="1447920"/>
            <a:ext cx="609588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These may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Sleep disturbances such as early morning waking, sleeping too much or insomnia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ack of energ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Unexplained headaches or backach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Stomachaches, indigestion or changes in bowel habi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8" name="Picture 5" descr="j0157055"/>
          <p:cNvPicPr/>
          <p:nvPr/>
        </p:nvPicPr>
        <p:blipFill>
          <a:blip r:embed="rId1"/>
          <a:stretch/>
        </p:blipFill>
        <p:spPr>
          <a:xfrm>
            <a:off x="0" y="3833640"/>
            <a:ext cx="2963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7c9f"/>
                </a:solidFill>
                <a:latin typeface="Arial"/>
              </a:rPr>
              <a:t>Common Types of Depression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Major Depression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Dysthymia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Bipolar Disorder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Seasonal Affective Disorder (SAD)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15235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Major Depress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This type causes symptoms that may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Begin suddenly, possibly triggered by a loss, crisis or chan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Interfere with normal functioning (school, work or relationship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Continue for months or yea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" name="Picture 4" descr="j0131713"/>
          <p:cNvPicPr/>
          <p:nvPr/>
        </p:nvPicPr>
        <p:blipFill>
          <a:blip r:embed="rId1"/>
          <a:stretch/>
        </p:blipFill>
        <p:spPr>
          <a:xfrm>
            <a:off x="152280" y="-3240"/>
            <a:ext cx="27939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5:30:41Z</dcterms:created>
  <dc:creator>April Herring</dc:creator>
  <dc:description/>
  <dc:language>en-US</dc:language>
  <cp:lastModifiedBy>Staff</cp:lastModifiedBy>
  <dcterms:modified xsi:type="dcterms:W3CDTF">2016-09-08T04:23:04Z</dcterms:modified>
  <cp:revision>19</cp:revision>
  <dc:subject/>
  <dc:title>PowerPoint Presentation</dc:title>
</cp:coreProperties>
</file>